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115-5FF3-4F1D-8A32-255F0BFC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D85-A4DE-43A4-AC76-C4E1D18D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DB6-AD19-46AD-8C4E-1B1D9B70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035-E171-4CD7-BC7D-4CA97C82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102-40B2-480E-877B-194B0CA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6D5-FA10-48EE-A997-6674A50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7D4-DEF9-4589-9920-8DD06F6F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00E-97D4-40E7-A4BE-93AA2F2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760-16BD-4A07-81EB-EA4434D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4C5-1222-46A6-B766-485183B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FD0-CA44-4A18-A12F-53B6A1D8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04F-E443-49FD-9B28-8CF79B98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B2FB-8C64-4498-AD04-D5DA4A3CC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/>
            <a:ahLst/>
            <a:rect l="l" t="t" r="r" b="b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/>
            <a:ahLst/>
            <a:rect l="l" t="t" r="r" b="b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/>
            <a:ahLst/>
            <a:rect l="l" t="t" r="r" b="b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7440" y="636480"/>
            <a:ext cx="20880" cy="1954440"/>
          </a:xfrm>
          <a:custGeom>
            <a:avLst/>
            <a:gdLst/>
            <a:ahLst/>
            <a:rect l="l" t="t" r="r" b="b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Beed</cp:lastModifiedBy>
  <dcterms:modified xsi:type="dcterms:W3CDTF">2006-03-08T02:57:44Z</dcterms:modified>
  <cp:revision>6</cp:revision>
  <dc:subject/>
  <dc:title>Slide 1</dc:title>
</cp:coreProperties>
</file>